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901A-B882-4DE2-98F8-C373317842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4D63A-404B-4AB9-8EBD-29B8B882F13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B5C9-CA94-4246-9A50-5AF32285D98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7338-29E3-4575-A9B2-1B02CA60296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93D2-4F67-4B53-BE28-33CFA822895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ED1F-4582-4DF1-AD86-7750D96AA10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2438-4B39-40AA-919A-A165DD18495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2E97-1A3B-43AB-A8C3-5F7AF436017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BF0E-6E43-4E40-A4CB-66454451D8C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6DF7-F227-4686-B57C-429B3762B36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BAA4E-1286-4BC6-BB3E-77EEE4CF2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54243-4C4A-4A30-A88D-043D44FDC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01580-B9B4-4F31-ADA1-9769214AE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46FDA-C8CF-4CA4-BD3D-76860A56A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48BBC-A867-48C7-8EE3-9E905C059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8588F-96FA-4F3D-A3AC-18D0BD697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4CB39-F653-48DE-96D2-2D38BE39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9518C-A79B-4689-A40B-254C09517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050C7-7EF9-408F-B136-6CDB7FB54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5943F-25C6-4206-A934-9D6C6EFDE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08D0A-BAAA-4B50-8ADE-7BA39D19B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0EF34-ECD6-413B-A169-3A93B6C10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E18C-8BEB-4988-8459-252C3D0FFC7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12-09T18:56:48Z</dcterms:modified>
  <cp:revision>26</cp:revision>
  <dc:subject/>
  <dc:title>Countries</dc:title>
</cp:coreProperties>
</file>